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0DC-B3B1-48BF-9275-157D7350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1A3-315F-4FDB-9C0F-CD6A9C2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CBB-EF12-4DB7-8D02-91EC4082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D25-D201-431C-9007-0856FB3C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9F1-B381-4690-BC6E-1DAF1A12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091-B224-429D-8E47-F3C0472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7B3-7738-4CCC-A73F-D4FC34A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15A-434E-45C7-B8BA-C7380F70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CF4-80F9-43A6-B790-F0F1EB3E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8ED-D13C-43C2-A688-2AB2E41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BEC-785A-4476-A7F8-B3B9602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B51-9D9C-45CD-BADD-D52858F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9F6-7667-4798-B314-A486226B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5638680" cy="501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657800" y="2724120"/>
            <a:ext cx="6248520" cy="1257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ooler Than You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5627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07.8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climates of coastal and inland areas at similar latitudes to demonstrate the ocean’s impact on weather and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do you think effect temperature in different cit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term landlocked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term coastal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28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think a landlocked city and a coastal city with similar latitudes would have the same average temperature each mont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0:12:13Z</dcterms:created>
  <dc:creator>Bones</dc:creator>
  <dc:description/>
  <dc:language>en-US</dc:language>
  <cp:lastModifiedBy>Dekalb County School</cp:lastModifiedBy>
  <dcterms:modified xsi:type="dcterms:W3CDTF">2011-11-24T04:24:11Z</dcterms:modified>
  <cp:revision>2</cp:revision>
  <dc:subject/>
  <dc:title>Slide 1</dc:title>
</cp:coreProperties>
</file>